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A1F4-8A58-4CD4-85E6-97E05EA7B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B768-A33A-49AB-B772-24F25AF09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ABB3-3D20-45C2-AC38-FCD6A6043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34ED-D41A-459D-9EB7-EFD928094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32338-EA42-4C0E-8395-650D6C5D7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46CCD-0545-4447-96EA-6B221B112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67AA2-456D-406D-BF0D-1C6B9482D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E6008-5C8E-42DF-B016-FB622BC0B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18E79-9E7D-482C-A19E-625C5406E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88E23-6C38-45B8-9C41-3EE7F79C9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4BDE0-5696-4AF3-9F42-0A21E908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A1CE-F85C-4465-B5A9-829944B3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F8312-2429-4C05-B5D0-93740148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5EE61-7E87-4DDD-92E8-7ABF8672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CEE38-ECD5-48F1-A6C0-4ABE2F489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2B3C7-071A-4747-A86B-B2CFEFA10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E5E58-439B-4C0C-96BB-FE719A28C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BEAA-0253-402F-AAE8-E8D86CF6E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883B-25A9-48B1-B732-1FBFBA3AE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FCEE-34A9-4258-8763-1541EE136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6C7C-ADF3-43B5-8BA4-29D2CB31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4535-3F2E-4676-9F32-92F932DD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3F22-6A87-4495-A6B7-4334A7A8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6F04-F032-4E9C-9388-C6D6669C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D05CB-733B-4626-85CF-9B04C6EE418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2DE09-DF8C-483A-A43F-89A67F92939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nhancing memor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strateg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erceptual Priming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ceptual priming is the phenomenon that prior perception of an object leads to easier subsequent perception of the same subjec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main; Eng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onceptual priming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ceptual priming exposes students to concepts via advance organisers such as introducing vocabulary, objectives and/or questions prior to reading or presentation of the new inform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main; Eng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ncoding Practi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coding practice consists of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ding of chapters and/or textbook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-reading of chapters and/or textbook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tlining or mind mapping inform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nemonic strateg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bove are ranked according to effectivenes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Retrieval practi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trieval practice means engaging in activities that call for the recall of stored inform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ffective strategies 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king ques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actice tes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udying with other stud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ents asking students ques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osing and completing self-tes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Retrieval cu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trieval cues make it easier for students to access information in their long term memory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must be present when learning takes place in order to be effectiv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trieval cues inclu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ltiple choice tes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sts with word bank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ceptual categori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ual images or wo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Graphic organiser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DEECD website (good for graphic organiser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Inspiration (sophisticated, very good for Mindmap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Interwrite (good graphic organisers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Freemind (on Year 7 Notebooks alread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Visio (good for business and technolog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nemonic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thod of loc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rrative chai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g wo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rosti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rony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nemonics- Method of Loc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this technique the subject memorizes the layout of some building, or the arrangement of shops on a stree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remember a set of items the subject literally 'walks' through these loci and commits an item to each one by forming an imag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trieval of items is achieved by 'walking' through the loc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nemonics- narrative chaining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related items are linked to each other by forming a s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technique adds organisation and meaningfulness to otherwise meaningless mate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lpful when you want to remember information in a particular ord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nemonics- Acronym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first letter of each “idea” is formed into a memorable senten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mples ar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GBDF- Every good boy deserves fru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"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F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irst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lace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O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ten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akes the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rophy. "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-Frontal, Parietal, Occipital, Temporal, are The lobes of the brai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"Good Physicists Have Studied Under Very Fine Teachers“  -Maxwell relations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Understanding and memor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tting in class and understanding what is being presented is not enough to perform well in a tes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nemonics- acronym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Using the first letter of a sequence of words to produce a pronouncable wor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Some examples 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ANZA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EFTP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NA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ummar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ive students time to process information into their Long Term Memor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dentify prior knowledg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volve all students’ sens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 multiple, varied activit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me the stud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 mnemoni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Understanding and memor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udents need to engage in an activity to enable them to remember what they understa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mains; Engage &amp; Elabor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ctivation of prior knowled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chers need to activate students’ prior knowledge about the new top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do you know about….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do you want to know about…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se questions create a “hook” to hang the new information 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mains; Engage &amp; Elabor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ypes of Rehearsal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intenance rehearsal consists of using a a memory strategy that keeps information in the short term memory. An example is repeating a telephone number over and over agai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ypes of rehearsal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aborative rehearsal consists of making associations between the new information and what one already knows. This can be done b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king notes on a chapter while rea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eating a mnemonic dev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aborative rehearsal is more effective in moving information to long term memor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ultiple Instructional method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ing multiple senses enhances memory and learn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ing spatial and linear formats consolidates ide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viding students with a number of ways to recode information helps with long term memory storage and retriev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mains; Explain &amp; Explo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nterferen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udents are presented with new information every 45 to 60 minut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ormation presented in the first class will interfere with information presented in the second clas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ocks of 90 minutes enhance  consolidation of new inform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main; Explo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pisodic and semantic memor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pisodic memory stores events about the event or episodes in our liv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mantic memory is the memory of knowledge and concep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effectiveness of both these memory systems varies so teachers should use multiple, varied activities, such as projects, field trips and group wor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main; Expla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23:23:47Z</dcterms:created>
  <dc:creator>c</dc:creator>
  <dc:description/>
  <dc:language>en-US</dc:language>
  <cp:lastModifiedBy>c</cp:lastModifiedBy>
  <dcterms:modified xsi:type="dcterms:W3CDTF">2010-02-17T22:09:16Z</dcterms:modified>
  <cp:revision>14</cp:revision>
  <dc:subject/>
  <dc:title>Enhancing memory</dc:title>
</cp:coreProperties>
</file>